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1E0-F402-49C9-B005-7E1AD3BC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CCB0-BF20-4EBD-9266-D269DB69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8D3-3080-47B0-B34D-FBA5203C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906-EAB7-4F00-9423-57B22C80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E0A-231B-4CE0-8156-8E260AAD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530-205D-46D3-A821-EC0D6B01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A44-66E5-4B00-B007-9BBA625D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3753-2096-4E34-AD7E-E03F35E9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512-0C4B-410B-AA67-20EBBA7E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CA0-1072-42DF-9225-C9DBCBA4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852-9B87-47C5-B053-90F0CA91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F4B-6AAE-4714-A42D-42DB2430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25DCB-FD7F-4D99-8FFC-9996EF597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vogadro’s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353600"/>
            <a:ext cx="914400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Equal volumes of different gases at the same temperature and pressure have the same number of mol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(g)     +   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(g)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2HCl (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10 c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3  </a:t>
            </a:r>
            <a:r>
              <a:rPr b="0" lang="en-US" sz="16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acts wit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10 c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for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20c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(g)     +      3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(g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2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10 c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3     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30 c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         20c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382400"/>
            <a:ext cx="9144000" cy="51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press all temperatures in Kelvin:  28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 = 301 K     and     0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 = 273 K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pply:   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/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 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/T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  =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 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x 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/ 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 127 x 8.4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x 273   / 1.01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x   30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  95.8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using the above expression there is no need to change volume in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or even pressure in atm) provided they are in the same un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needs changing though is temperature as this needs to be in Kelvi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 par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600200"/>
            <a:ext cx="91440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umber of moles can only be calculated by using the ideal gas equatio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when using the ideal gas equation, SI units need to be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=   PV/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  8.4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 x 1.27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4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8.31 J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mo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 301 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 4.3 x 1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s of ideal gas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600200"/>
            <a:ext cx="91440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molar mass of a gas: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need to know the conditions it is in and the mass of the sample of the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then calculat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hen using n = mass/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lculate the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an also use this calculation to identify an unknown gas experimentally 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896840"/>
            <a:ext cx="914400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sample of a gas has a volume of 432 c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d a mass of 1.500g at a pressure of 0.974 atm and a temperature of 28 C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lculate the molar mas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 = mass RT/p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88.28 g mo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vogadro’s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41768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n other words, if there are </a:t>
            </a:r>
            <a:r>
              <a:rPr b="1" i="1" lang="en-US" sz="3200" spc="-1" strike="noStrike">
                <a:solidFill>
                  <a:srgbClr val="0000ff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molecules/moles of 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in 10 cm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of oxygen gas, then there are </a:t>
            </a:r>
            <a:r>
              <a:rPr b="1" i="1" lang="en-US" sz="3200" spc="-1" strike="noStrike">
                <a:solidFill>
                  <a:srgbClr val="0000ff"/>
                </a:solidFill>
                <a:latin typeface="Calibri"/>
              </a:rPr>
              <a:t>x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molecules/moles of 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in 10 cm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of nitrogen gas and there are </a:t>
            </a:r>
            <a:r>
              <a:rPr b="1" i="1" lang="en-US" sz="3200" spc="-1" strike="noStrike">
                <a:solidFill>
                  <a:srgbClr val="0000ff"/>
                </a:solidFill>
                <a:latin typeface="Calibri"/>
              </a:rPr>
              <a:t>2x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molecules/moles of C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in 20 cm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of carbon dioxide g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other way of putting this is that the volume of a gas depends on the amount of moles of the gas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provided the conditions are the same).  Or, if the volume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as is double the volume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n there are twice as many mole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ar vol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t s.t.p. (which is 273K and 1.01 x 10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P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lume of 1 mole of any g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27 x 1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mol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2.7 dm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mol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033880" y="3487680"/>
            <a:ext cx="3855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Gas laws: why do all gases have the same molar volume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80648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gas laws describe the behaviour of gases i.e. the relationships between temperature, volume and pressure of a ga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V = constant   (Boyle’s Law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/T = constant  (Charles’s Law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/T = const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/n = constant  (Avogadro’s Law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al gas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41768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GB" sz="4800" spc="-1" strike="noStrike">
                <a:solidFill>
                  <a:srgbClr val="ff660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ff6600"/>
                </a:solidFill>
                <a:latin typeface="Calibri"/>
              </a:rPr>
              <a:t>pV = </a:t>
            </a:r>
            <a:r>
              <a:rPr b="0" i="1" lang="en-GB" sz="4800" spc="-1" strike="noStrike">
                <a:solidFill>
                  <a:srgbClr val="ff6600"/>
                </a:solidFill>
                <a:latin typeface="Calibri"/>
              </a:rPr>
              <a:t>n</a:t>
            </a:r>
            <a:r>
              <a:rPr b="0" lang="en-GB" sz="4800" spc="-1" strike="noStrike">
                <a:solidFill>
                  <a:srgbClr val="ff6600"/>
                </a:solidFill>
                <a:latin typeface="Calibri"/>
              </a:rPr>
              <a:t>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 =  8.31 J K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-1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o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              ( J = Nm)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ssure must be in Pa                 (Pa = N 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olume should be in 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1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1000 d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and 1 d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1000 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r m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emperature should be in K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n you cancel all unit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of ideal gas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861920"/>
            <a:ext cx="91440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lculate the p, V or T values of a gas provided the 3 other properties are know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volume will be occupied by 0.216 g of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t 21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 and at a pressure of 1.34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P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5998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number of moles of the gas: 0.216 g/44.0 g = 4.9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 temperature in Kelvin:  2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294 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y pV = n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1.34 x 10</a:t>
            </a:r>
            <a:r>
              <a:rPr b="0" lang="en-US" sz="3200" spc="-1" strike="noStrike" baseline="30000">
                <a:solidFill>
                  <a:srgbClr val="ff66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   x   V  =  4.91 x 10</a:t>
            </a:r>
            <a:r>
              <a:rPr b="0" lang="en-US" sz="3200" spc="-1" strike="noStrike" baseline="30000">
                <a:solidFill>
                  <a:srgbClr val="ff6600"/>
                </a:solidFill>
                <a:latin typeface="Calibri"/>
              </a:rPr>
              <a:t>-3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     x    8.31   x   294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                          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V =  8.95 x 10</a:t>
            </a:r>
            <a:r>
              <a:rPr b="0" lang="en-US" sz="3200" spc="-1" strike="noStrike" baseline="30000">
                <a:solidFill>
                  <a:srgbClr val="ff6600"/>
                </a:solidFill>
                <a:latin typeface="Calibri"/>
              </a:rPr>
              <a:t>-5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 m</a:t>
            </a:r>
            <a:r>
              <a:rPr b="0" lang="en-US" sz="3200" spc="-1" strike="noStrike" baseline="30000">
                <a:solidFill>
                  <a:srgbClr val="ff66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 (= 89.5 cm</a:t>
            </a:r>
            <a:r>
              <a:rPr b="0" lang="en-US" sz="3200" spc="-1" strike="noStrike" baseline="30000">
                <a:solidFill>
                  <a:srgbClr val="ff66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ancel uni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of ideal gas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new value of either p, V or T, when only one of the properties of a sample of a gas has been chang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 number of moles and gas constant remain the same, the ideal equation can be simplified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=   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gas occupies 127 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3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t a pressure of 8.4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 and at 28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volume will the same amount of gas occupy at 1.01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Pa and 0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many moles of gas are prese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03:03:43Z</dcterms:created>
  <dc:creator>Nico Van De Casteele</dc:creator>
  <dc:description/>
  <dc:language>en-US</dc:language>
  <cp:lastModifiedBy>Nico Van De Casteele</cp:lastModifiedBy>
  <dcterms:modified xsi:type="dcterms:W3CDTF">2014-10-15T04:46:21Z</dcterms:modified>
  <cp:revision>18</cp:revision>
  <dc:subject/>
  <dc:title>PowerPoint Presentation</dc:title>
</cp:coreProperties>
</file>